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CAA-4814-47D4-9DF8-8A4E875F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673-DCB1-4E32-AB77-2E2F161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77B-A3CD-4CC0-929F-0E082F6A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1B2-D035-45EC-86CC-1BB8D94C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67D-FB4B-46F9-B94A-06DB0C8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583-6B2F-46C3-B1E1-BB564CC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1BD-4A07-49C3-99F9-861EE2A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948-D074-458E-A00D-DF252139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0C3-A014-4135-BA54-7BFBC69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1B5-87D1-4031-B15C-A3B39D9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F16-38BC-47FB-A6B6-26A6089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3A1-9416-420E-8E5F-C0CC63E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ECED-AC5D-4170-BD33-098B5DABDB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620640"/>
            <a:ext cx="6400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ан  т</a:t>
            </a:r>
            <a:r>
              <a:rPr b="0" lang="tt-RU" sz="6600" spc="-1" strike="noStrike">
                <a:solidFill>
                  <a:srgbClr val="ffffff"/>
                </a:solidFill>
                <a:latin typeface="Arial"/>
              </a:rPr>
              <a:t>өркемчәләре.Төп сан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Бердәмлектә - көч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Авызың әйткәнне-колагың ишетсен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Хикмәт - күңел  күзендә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Предметның санын, исәбен белде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Ничә?Күпме? Никадәр?һ.б.сорауларына җавап булып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ачыклаган исем  саналмыш дип ат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Ясалышы ягыннан тамыр, кушма, парлы,тезмә саннар бу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нар гарәп һәм р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лары бел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ән белдере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төркемчәләре:м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ъдар,тәртип,бүлем, чама, җыю санн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406728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414036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421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35600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ff"/>
                </a:solidFill>
                <a:latin typeface="Arial"/>
              </a:rPr>
              <a:t>Сүзлек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ыңгыр эш- ярамаган, ялган 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рҗә-кәрз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чы торма- яшелчә (редька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каль-послов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йтем-погово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ынамыш-прим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Халык авыз иҗаты(фольклор)-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ерым кешеләр тарафыннан иҗат ителеп,телдән-телгә күчеп йөргән әсәрләр җыелм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ыңгыр эш кырык елдан соң да белен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ке уйла , бер сөйл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тар халык 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л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ә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лемле кеше дүрт күзле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Гагауз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әү- әрҗә турында, берәү- кәҗә турын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Белорус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нбишенче февр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ә көн җылы булса,яз яхшы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Халык сынамыш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 имәндә өч ботак,ботак саен өчәр алма.Барысы ничә ал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Сорау- 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үртләп туган бер түбә астында яшиләр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 төркемчәлә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М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ъдар саны(ничә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әртип саны(ничәнче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лем саны(ничәшәр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ма саны(ничәләп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ыю саны(ничәү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71636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716360" y="19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788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71636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4716360" y="4941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тыз көн, бер бәхет, бер р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пт,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ачы кара торма,бер аш кашыгы бал,өч- дүрт тапкыр, унбиш- егерме минут,икешәр аш кашыг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ТӘНДӘ-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АКЫЛ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1төркем-  күнегүдән төп саннарны табып язар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2төркем – сәламәт булу рецеп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3төркем – сәламәт кеше  нинди булырга тиеш? (рәсем, хикәя һ.б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1:07Z</dcterms:created>
  <dc:creator>user</dc:creator>
  <dc:description/>
  <dc:language>en-US</dc:language>
  <cp:lastModifiedBy>Равил</cp:lastModifiedBy>
  <dcterms:modified xsi:type="dcterms:W3CDTF">2012-10-01T19:09:49Z</dcterms:modified>
  <cp:revision>5</cp:revision>
  <dc:subject/>
  <dc:title>Слайд 1</dc:title>
</cp:coreProperties>
</file>